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A8F42-0553-4438-87F7-5F2C82C6B5E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3533C-78F2-44FB-9F52-60C0AB78D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4F07F-D690-49D1-99CF-9563D5129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3D1DF-C840-4525-8C70-ABFC84C474A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3A5D2-CC42-4A01-B894-E6583C39E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8FE41-70BF-48A0-96EA-F4560D100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465B7-DE55-47D4-96C9-0B58EF9F1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0AD57-C677-46D2-9D4A-63B3220AD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16DCA-6FA5-425E-9FC3-F038757ED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9D929-201A-4F6A-A13A-5B043D3FD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DF4FF-0E7F-42D9-B1A5-96423CF50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AB3F6-56E7-44FD-B7D7-3523BDD4A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1DF86-37EB-4A03-B852-2A94B03C06B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79280" y="2997000"/>
            <a:ext cx="6400800" cy="74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　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第十一节  恶心与呕吐</a:t>
            </a:r>
            <a:r>
              <a:rPr b="0" lang="zh-CN" sz="37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37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Verdana"/>
                <a:ea typeface="华文新魏"/>
              </a:rPr>
              <a:t>相关护理问题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、体液不足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体液不足的危险：与呕吐引起体液丧失及摄入量减少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、营养失调：低于机体需要量 与长期呕吐和食物摄入量不足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、潜在并发症：窒息；肺部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教学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说出恶心、呕吐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阐述呕吐的类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用自己的语言解释恶心、呕吐的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用自己的语言描述恶心的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比较不同类型的呕吐，正确说明其临床表现的区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运用本节所学知识，能针对恶心、呕吐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根据护理评估，能正确作出护理诊断，并列出相关因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Verdana"/>
                <a:ea typeface="华文新魏"/>
              </a:rPr>
              <a:t>恶心与呕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2487240"/>
            <a:ext cx="8610480" cy="376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Verdana"/>
                <a:ea typeface="华文新魏"/>
              </a:rPr>
              <a:t>恶心：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</a:rPr>
              <a:t>为上腹不适，紧迫欲呕吐的感觉并伴有迷走神经兴奋的症状，如皮肤苍白、出汗、流涎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Verdana"/>
                <a:ea typeface="华文新魏"/>
              </a:rPr>
              <a:t>呕吐：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</a:rPr>
              <a:t>是胃或小肠的内容物，通过食管逆流经口腔而排出体外的现象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1" name="WordArt 4" descr=""/>
          <p:cNvPicPr/>
          <p:nvPr/>
        </p:nvPicPr>
        <p:blipFill>
          <a:blip r:embed="rId1"/>
          <a:stretch/>
        </p:blipFill>
        <p:spPr>
          <a:xfrm>
            <a:off x="5864400" y="1427040"/>
            <a:ext cx="21272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Verdana"/>
                <a:ea typeface="华文新魏"/>
              </a:rPr>
              <a:t>病因、发生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Oval 3"/>
          <p:cNvSpPr/>
          <p:nvPr/>
        </p:nvSpPr>
        <p:spPr>
          <a:xfrm>
            <a:off x="1187280" y="3213000"/>
            <a:ext cx="2376720" cy="647640"/>
          </a:xfrm>
          <a:prstGeom prst="ellipse">
            <a:avLst/>
          </a:prstGeom>
          <a:gradFill rotWithShape="0">
            <a:gsLst>
              <a:gs pos="0">
                <a:srgbClr val="99669b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Verdana"/>
              </a:rPr>
              <a:t>延髓 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呕吐中枢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5" name="AutoShape 4"/>
          <p:cNvSpPr/>
          <p:nvPr/>
        </p:nvSpPr>
        <p:spPr>
          <a:xfrm>
            <a:off x="4572000" y="2205000"/>
            <a:ext cx="2087640" cy="792360"/>
          </a:xfrm>
          <a:prstGeom prst="flowChartDocumen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Verdana"/>
              </a:rPr>
              <a:t>神经反射中枢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Verdana"/>
              </a:rPr>
              <a:t>(</a:t>
            </a:r>
            <a:r>
              <a:rPr b="1" lang="zh-CN" sz="1800" spc="-1" strike="noStrike">
                <a:solidFill>
                  <a:srgbClr val="cc3300"/>
                </a:solidFill>
                <a:latin typeface="Verdana"/>
              </a:rPr>
              <a:t>呕吐中枢</a:t>
            </a:r>
            <a:r>
              <a:rPr b="1" lang="en-US" sz="1800" spc="-1" strike="noStrike">
                <a:solidFill>
                  <a:srgbClr val="cc33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6" name="AutoShape 5"/>
          <p:cNvSpPr/>
          <p:nvPr/>
        </p:nvSpPr>
        <p:spPr>
          <a:xfrm>
            <a:off x="4427640" y="4076640"/>
            <a:ext cx="2232000" cy="647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Verdana"/>
              </a:rPr>
              <a:t>化学感受器触发带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7" name="Line 6"/>
          <p:cNvSpPr/>
          <p:nvPr/>
        </p:nvSpPr>
        <p:spPr>
          <a:xfrm>
            <a:off x="4067280" y="2565360"/>
            <a:ext cx="0" cy="187164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8" name="Line 7"/>
          <p:cNvSpPr/>
          <p:nvPr/>
        </p:nvSpPr>
        <p:spPr>
          <a:xfrm>
            <a:off x="4067280" y="2565360"/>
            <a:ext cx="50472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9" name="Line 8"/>
          <p:cNvSpPr/>
          <p:nvPr/>
        </p:nvSpPr>
        <p:spPr>
          <a:xfrm>
            <a:off x="4067280" y="4437000"/>
            <a:ext cx="36036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3564000" y="3500280"/>
            <a:ext cx="50328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4356000" y="5300640"/>
            <a:ext cx="324036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接受各种外来的化学物质或药物的刺激 </a:t>
            </a:r>
            <a:r>
              <a:rPr b="1" lang="en-US" sz="1600" spc="-1" strike="noStrike">
                <a:solidFill>
                  <a:srgbClr val="046ca6"/>
                </a:solidFill>
                <a:latin typeface="Verdana"/>
              </a:rPr>
              <a:t>(</a:t>
            </a:r>
            <a:r>
              <a:rPr b="1" lang="zh-CN" sz="1600" spc="-1" strike="noStrike">
                <a:solidFill>
                  <a:srgbClr val="046ca6"/>
                </a:solidFill>
                <a:latin typeface="Verdana"/>
              </a:rPr>
              <a:t>如吗啡、洋地黄</a:t>
            </a:r>
            <a:r>
              <a:rPr b="1" lang="en-US" sz="1600" spc="-1" strike="noStrike">
                <a:solidFill>
                  <a:srgbClr val="046ca6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内生代谢产物 </a:t>
            </a:r>
            <a:r>
              <a:rPr b="1" lang="en-US" sz="1600" spc="-1" strike="noStrike">
                <a:solidFill>
                  <a:srgbClr val="046ca6"/>
                </a:solidFill>
                <a:latin typeface="Verdana"/>
              </a:rPr>
              <a:t>(</a:t>
            </a:r>
            <a:r>
              <a:rPr b="1" lang="zh-CN" sz="1600" spc="-1" strike="noStrike">
                <a:solidFill>
                  <a:srgbClr val="046ca6"/>
                </a:solidFill>
                <a:latin typeface="Verdana"/>
              </a:rPr>
              <a:t>如酸中毒</a:t>
            </a:r>
            <a:r>
              <a:rPr b="1" lang="en-US" sz="1600" spc="-1" strike="noStrike">
                <a:solidFill>
                  <a:srgbClr val="046ca6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2" name="AutoShape 11"/>
          <p:cNvSpPr/>
          <p:nvPr/>
        </p:nvSpPr>
        <p:spPr>
          <a:xfrm>
            <a:off x="5651640" y="4724280"/>
            <a:ext cx="72720" cy="576360"/>
          </a:xfrm>
          <a:prstGeom prst="upArrow">
            <a:avLst>
              <a:gd name="adj1" fmla="val 50000"/>
              <a:gd name="adj2" fmla="val 198144"/>
            </a:avLst>
          </a:prstGeom>
          <a:solidFill>
            <a:srgbClr val="8ac8de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3" name="AutoShape 12"/>
          <p:cNvSpPr/>
          <p:nvPr/>
        </p:nvSpPr>
        <p:spPr>
          <a:xfrm>
            <a:off x="6661080" y="2565360"/>
            <a:ext cx="144360" cy="1727280"/>
          </a:xfrm>
          <a:custGeom>
            <a:avLst/>
            <a:gdLst>
              <a:gd name="textAreaLeft" fmla="*/ 0 w 144360"/>
              <a:gd name="textAreaRight" fmla="*/ 123840 w 144360"/>
              <a:gd name="textAreaTop" fmla="*/ 1151640 h 1727280"/>
              <a:gd name="textAreaBottom" fmla="*/ 1727640 h 172728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046ca6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4" name="Text Box 13"/>
          <p:cNvSpPr/>
          <p:nvPr/>
        </p:nvSpPr>
        <p:spPr>
          <a:xfrm>
            <a:off x="6019560" y="2852640"/>
            <a:ext cx="6066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Verdana"/>
              </a:rPr>
              <a:t>引发神经冲动</a:t>
            </a:r>
            <a:endParaRPr b="0" lang="en-US" sz="1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5" name="Text Box 14"/>
          <p:cNvSpPr/>
          <p:nvPr/>
        </p:nvSpPr>
        <p:spPr>
          <a:xfrm>
            <a:off x="7020000" y="198900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Verdana"/>
              </a:rPr>
              <a:t>接受来自消化道、大脑皮质、前庭及化学感受器触发带的传入冲动</a:t>
            </a:r>
            <a:endParaRPr b="0" lang="en-US" sz="16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6" name="AutoShape 15"/>
          <p:cNvSpPr/>
          <p:nvPr/>
        </p:nvSpPr>
        <p:spPr>
          <a:xfrm>
            <a:off x="6659640" y="2276640"/>
            <a:ext cx="504720" cy="72720"/>
          </a:xfrm>
          <a:prstGeom prst="leftArrow">
            <a:avLst>
              <a:gd name="adj1" fmla="val 50000"/>
              <a:gd name="adj2" fmla="val 173515"/>
            </a:avLst>
          </a:prstGeom>
          <a:solidFill>
            <a:srgbClr val="046ca6"/>
          </a:solidFill>
          <a:ln w="936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Verdana"/>
                <a:ea typeface="华文新魏"/>
              </a:rPr>
              <a:t>病因、发生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2099880"/>
            <a:ext cx="861048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(1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）消化系统疾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）其他系统疾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4211640" y="1908000"/>
            <a:ext cx="453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①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口咽刺激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②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胃肠疾病：</a:t>
            </a:r>
            <a:r>
              <a:rPr b="1" lang="zh-CN" sz="1400" spc="-1" strike="noStrike">
                <a:solidFill>
                  <a:srgbClr val="046ca6"/>
                </a:solidFill>
                <a:latin typeface="Verdana"/>
              </a:rPr>
              <a:t>如急性胃肠炎、幽门梗阻、肠梗阻</a:t>
            </a:r>
            <a:endParaRPr b="0" lang="en-US" sz="1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③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肝、胆、胰疾病：</a:t>
            </a:r>
            <a:r>
              <a:rPr b="1" lang="zh-CN" sz="1400" spc="-1" strike="noStrike">
                <a:solidFill>
                  <a:srgbClr val="046ca6"/>
                </a:solidFill>
                <a:latin typeface="Verdana"/>
              </a:rPr>
              <a:t>如急性肝炎、急性胆囊炎、急性胰腺炎</a:t>
            </a:r>
            <a:endParaRPr b="0" lang="en-US" sz="1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④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腹膜及肠系膜疾病</a:t>
            </a:r>
            <a:r>
              <a:rPr b="1" lang="zh-CN" sz="1400" spc="-1" strike="noStrike">
                <a:solidFill>
                  <a:srgbClr val="046ca6"/>
                </a:solidFill>
                <a:latin typeface="Verdana"/>
              </a:rPr>
              <a:t>如急性腹膜炎</a:t>
            </a:r>
            <a:endParaRPr b="0" lang="en-US" sz="1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4284720" y="3789360"/>
            <a:ext cx="446400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①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泌尿系统及生殖系统疾病：</a:t>
            </a:r>
            <a:r>
              <a:rPr b="1" lang="zh-CN" sz="1400" spc="-1" strike="noStrike">
                <a:solidFill>
                  <a:srgbClr val="046ca6"/>
                </a:solidFill>
                <a:latin typeface="Verdana"/>
              </a:rPr>
              <a:t>如泌尿系统结石、肾绞痛</a:t>
            </a:r>
            <a:endParaRPr b="0" lang="en-US" sz="1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②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心血管疾病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：</a:t>
            </a:r>
            <a:r>
              <a:rPr b="1" lang="zh-CN" sz="1400" spc="-1" strike="noStrike">
                <a:solidFill>
                  <a:srgbClr val="046ca6"/>
                </a:solidFill>
                <a:latin typeface="Verdana"/>
              </a:rPr>
              <a:t>如急性心肌梗死、休克等</a:t>
            </a:r>
            <a:endParaRPr b="0" lang="en-US" sz="1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③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眼部疾病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：</a:t>
            </a:r>
            <a:r>
              <a:rPr b="1" lang="zh-CN" sz="1400" spc="-1" strike="noStrike">
                <a:solidFill>
                  <a:srgbClr val="046ca6"/>
                </a:solidFill>
                <a:latin typeface="Verdana"/>
              </a:rPr>
              <a:t>如青光眼等</a:t>
            </a:r>
            <a:endParaRPr b="0" lang="en-US" sz="1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④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急性传染病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2" name="WordArt 6"/>
          <p:cNvSpPr txBox="1"/>
          <p:nvPr/>
        </p:nvSpPr>
        <p:spPr>
          <a:xfrm>
            <a:off x="826920" y="1268280"/>
            <a:ext cx="2286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反射性呕吐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Verdana"/>
                <a:ea typeface="华文新魏"/>
              </a:rPr>
              <a:t>病因、发生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2099880"/>
            <a:ext cx="861048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）中枢神经系统疾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(2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）药物或化学毒物的作用：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如抗生素、抗癌药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）其他：妊娠、代谢障碍</a:t>
            </a:r>
            <a:r>
              <a:rPr b="0" lang="en-US" sz="2000" spc="-1" strike="noStrike">
                <a:solidFill>
                  <a:srgbClr val="8ac8de"/>
                </a:solidFill>
                <a:latin typeface="Verdana"/>
              </a:rPr>
              <a:t>(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如酸中毒、尿毒症等</a:t>
            </a:r>
            <a:r>
              <a:rPr b="0" lang="en-US" sz="2000" spc="-1" strike="noStrike">
                <a:solidFill>
                  <a:srgbClr val="8ac8de"/>
                </a:solidFill>
                <a:latin typeface="Verdana"/>
              </a:rPr>
              <a:t>)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、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                    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精神因素</a:t>
            </a:r>
            <a:r>
              <a:rPr b="0" lang="en-US" sz="2000" spc="-1" strike="noStrike">
                <a:solidFill>
                  <a:srgbClr val="8ac8de"/>
                </a:solidFill>
                <a:latin typeface="Verdana"/>
              </a:rPr>
              <a:t>(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如癔症、神经性厌食</a:t>
            </a:r>
            <a:r>
              <a:rPr b="0" lang="en-US" sz="2000" spc="-1" strike="noStrike">
                <a:solidFill>
                  <a:srgbClr val="8ac8de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4932360" y="1628640"/>
            <a:ext cx="2808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①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中枢神经感染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②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脑内血管疾病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③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颅脑损伤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④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颅内占位性病变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7" name="WordArt 5"/>
          <p:cNvSpPr txBox="1"/>
          <p:nvPr/>
        </p:nvSpPr>
        <p:spPr>
          <a:xfrm>
            <a:off x="971640" y="1557360"/>
            <a:ext cx="2286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中枢性呕吐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Verdana"/>
                <a:ea typeface="华文新魏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Verdana"/>
              </a:rPr>
              <a:t>呕吐的时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Verdana"/>
              </a:rPr>
              <a:t>呕吐与进食的关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Verdana"/>
              </a:rPr>
              <a:t>呕吐的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Verdana"/>
              </a:rPr>
              <a:t>呕吐物的性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3203640" y="1557360"/>
            <a:ext cx="3313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晨起呕吐</a:t>
            </a:r>
            <a:r>
              <a:rPr b="1" lang="en-US" sz="1800" spc="-1" strike="noStrike">
                <a:solidFill>
                  <a:srgbClr val="046ca6"/>
                </a:solidFill>
                <a:latin typeface="Verdana"/>
              </a:rPr>
              <a:t>-----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妊娠、尿毒症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晚上呕吐</a:t>
            </a:r>
            <a:r>
              <a:rPr b="1" lang="en-US" sz="1800" spc="-1" strike="noStrike">
                <a:solidFill>
                  <a:srgbClr val="046ca6"/>
                </a:solidFill>
                <a:latin typeface="Verdana"/>
              </a:rPr>
              <a:t>-----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幽门梗阻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4140360" y="2565360"/>
            <a:ext cx="4319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餐后即吐</a:t>
            </a:r>
            <a:r>
              <a:rPr b="1" lang="en-US" sz="1800" spc="-1" strike="noStrike">
                <a:solidFill>
                  <a:srgbClr val="046ca6"/>
                </a:solidFill>
                <a:latin typeface="Verdana"/>
              </a:rPr>
              <a:t>-----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精神性厌食、食物中毒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餐后较久呕吐</a:t>
            </a:r>
            <a:r>
              <a:rPr b="1" lang="en-US" sz="1800" spc="-1" strike="noStrike">
                <a:solidFill>
                  <a:srgbClr val="046ca6"/>
                </a:solidFill>
                <a:latin typeface="Verdana"/>
              </a:rPr>
              <a:t>-----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幽门梗阻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2916360" y="3718080"/>
            <a:ext cx="61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颅内高压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-----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多无恶心，喷射性呕吐，伴头痛或意识障碍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3419640" y="4653000"/>
            <a:ext cx="5113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幽门梗阻</a:t>
            </a:r>
            <a:r>
              <a:rPr b="1" lang="en-US" sz="1800" spc="-1" strike="noStrike">
                <a:solidFill>
                  <a:srgbClr val="046ca6"/>
                </a:solidFill>
                <a:latin typeface="Verdana"/>
              </a:rPr>
              <a:t>----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发酵、腐败气味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小肠梗阻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----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低位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: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粪臭味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                  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高位：呕吐频繁、量多，含胆汁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1" lang="zh-CN" sz="3200" spc="-1" strike="noStrike">
                <a:solidFill>
                  <a:srgbClr val="969696"/>
                </a:solidFill>
                <a:latin typeface="Verdana"/>
              </a:rPr>
              <a:t>注意鉴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69696"/>
                </a:solidFill>
                <a:latin typeface="宋体"/>
              </a:rPr>
              <a:t>注意区分呕吐和返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69696"/>
                </a:solidFill>
                <a:latin typeface="宋体"/>
              </a:rPr>
              <a:t>呕吐发生的时间和诱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69696"/>
                </a:solidFill>
                <a:latin typeface="宋体"/>
              </a:rPr>
              <a:t>呕吐的次数和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69696"/>
                </a:solidFill>
                <a:latin typeface="宋体"/>
              </a:rPr>
              <a:t>呕吐物的性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69696"/>
                </a:solidFill>
                <a:latin typeface="宋体"/>
              </a:rPr>
              <a:t>呕吐与进食的关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69696"/>
                </a:solidFill>
                <a:latin typeface="宋体"/>
              </a:rPr>
              <a:t>伴随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AutoShape 4"/>
          <p:cNvSpPr/>
          <p:nvPr/>
        </p:nvSpPr>
        <p:spPr>
          <a:xfrm>
            <a:off x="2627280" y="189000"/>
            <a:ext cx="5940360" cy="2736720"/>
          </a:xfrm>
          <a:prstGeom prst="wedgeRoundRectCallout">
            <a:avLst>
              <a:gd name="adj1" fmla="val -38643"/>
              <a:gd name="adj2" fmla="val 49361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妊娠呕吐：早晨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幽门梗阻：夜晚或凌晨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食物中毒：不洁饮食史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药物性呕吐：有用药史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神经官能症：厌恶食物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胃源性：与进食有关，呕吐后轻松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9" name="AutoShape 5"/>
          <p:cNvSpPr/>
          <p:nvPr/>
        </p:nvSpPr>
        <p:spPr>
          <a:xfrm>
            <a:off x="1042920" y="2060640"/>
            <a:ext cx="7561440" cy="2305080"/>
          </a:xfrm>
          <a:prstGeom prst="wedgeRoundRectCallout">
            <a:avLst>
              <a:gd name="adj1" fmla="val -16805"/>
              <a:gd name="adj2" fmla="val 51513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带发酵、腐败气味提示胃潴留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带粪臭味提示低位小肠梗阻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含胆汁说明梗阻在十二指肠乳头以上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含有大量酸性液体提示胃泌素瘤或溃疡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0" name="AutoShape 6"/>
          <p:cNvSpPr/>
          <p:nvPr/>
        </p:nvSpPr>
        <p:spPr>
          <a:xfrm>
            <a:off x="826920" y="1557360"/>
            <a:ext cx="8317080" cy="2592360"/>
          </a:xfrm>
          <a:prstGeom prst="wedgeRoundRectCallout">
            <a:avLst>
              <a:gd name="adj1" fmla="val -22893"/>
              <a:gd name="adj2" fmla="val 81782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进食过程中或餐后即刻呕吐为精神性或幽门管溃疡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餐后较长时间或数餐后呕吐提示幽门梗阻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餐后近期发生、集体发病提示食物中毒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Verdana"/>
                <a:ea typeface="华文新魏"/>
              </a:rPr>
              <a:t>问诊要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、有无与恶心、呕吐相关的疾病和诱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、呕吐的特点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、恶心、呕吐对功能型态的影响；水电解质紊乱、营养不良、窒息或肺部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4</a:t>
            </a: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、诊断、治疗及护理经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3T13:27:33Z</dcterms:created>
  <dc:creator>yi</dc:creator>
  <dc:description/>
  <cp:keywords/>
  <dc:language>en-US</dc:language>
  <cp:lastModifiedBy>赵欣</cp:lastModifiedBy>
  <cp:lastPrinted>1899-12-30T00:00:00Z</cp:lastPrinted>
  <dcterms:modified xsi:type="dcterms:W3CDTF">2015-12-16T07:57:00Z</dcterms:modified>
  <cp:revision>46</cp:revision>
  <dc:subject/>
  <dc:title>症状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